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6B75-A44E-4DB3-B4F7-1DD65A0E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9936-80BA-4C36-83B2-5CA2557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4F82-8FC3-4D88-9375-93056658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B8EA-00A3-4A61-8D80-63C7E704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86B-442B-4542-B842-A3235B9E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4F12-7BCB-43C6-B51F-6DD7C7C3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5CA7-2281-4C17-A6CC-40D51860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44EA-0613-425E-AC36-45819B55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8456-0F26-4BEA-9E2A-31DF751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F3AA-3FE4-4B53-89EB-AD99CA1C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B17A-B9D6-4213-BF33-61D95C1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E8E9-169F-4C24-9356-28B9A0F5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DE22-5609-446F-B917-D450B3E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ADD-88B8-48A3-8333-ED997DDA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3B78-5271-4005-A832-C5587A72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3B2-45C9-4A6D-8C26-1133F64B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A4BB-B26B-445D-BED3-13AF60A9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246D-F52E-4042-B046-01EB8EFC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164A-1EC0-40A5-BC6D-D48ED6B1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8AF9-FD90-4FB4-969F-6416638A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B46A-1561-43EC-9874-996A0FE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BCCB-67F9-4D9D-AC59-040532A8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0A6E-60C0-4272-A811-B3BBF7F5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A98E-6E15-49FF-B4E0-92C48D2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687-EAA9-4587-B527-F4FB1FAFF46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954-CFC9-4EF0-91A5-B200A60C764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hakespeare.about.com/od/romeoandjuliet/a/romeo_fate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Romeo and Juliet: Themes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	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000" y="5949720"/>
            <a:ext cx="414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Year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dfd293"/>
                </a:solidFill>
                <a:latin typeface="Garamond"/>
              </a:rPr>
              <a:t>Theme Two: Hat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The Capulet’s hate the Montagues and vice ver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We don’t know why though the Prince says their grudge was the result of an “airy word” (an insul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222280" cy="302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68360" y="3500280"/>
            <a:ext cx="2248200" cy="288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0" y="3573360"/>
            <a:ext cx="41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  <a:ea typeface="Arial"/>
              </a:rPr>
              <a:t>The Younger generation of both families continue this feu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  <a:ea typeface="Arial"/>
              </a:rPr>
              <a:t>It is this hatred that leads to tension and conflict in the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dfd293"/>
                </a:solidFill>
                <a:latin typeface="Garamond"/>
              </a:rPr>
              <a:t>Tybalt’s Hat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Tybalt is unreasonably hatefu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The mere sight of Romeo at the Capulet party angers him to the point of murd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It is Ironic that the party which brings the two lovers together sows the seeds that destroy their liv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Perhaps Shakespeare is showing the paradoxical relationship between the two emot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Just as Romeo chooses Juliet as the object of his romantic desire, Tybalt chooses Romeo as the object of his murderous desi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9284" t="12569" r="32575" b="13404"/>
          <a:stretch/>
        </p:blipFill>
        <p:spPr>
          <a:xfrm>
            <a:off x="5003640" y="1773360"/>
            <a:ext cx="309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dfd293"/>
                </a:solidFill>
                <a:latin typeface="Garamond"/>
              </a:rPr>
              <a:t>Does Love or Hate triumph?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Does love or hate conquer in the pla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Romeo’s love for Juliet and hopes for happiness are destroyed by Tybalt’s hatred of Romeo, Mercutio’s hatred of Tybalt and Romeo’s failure to make amends through love (Act 3 Scene 1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The families hatred forces the two to end their liv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The love that prompted their rash actions however brings an end to the families hatr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Garamond"/>
              </a:rPr>
              <a:t>Once again Shakespeare shows us that Love and Hate are intertwin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3134" t="23932" r="57803" b="11486"/>
          <a:stretch/>
        </p:blipFill>
        <p:spPr>
          <a:xfrm>
            <a:off x="5292720" y="1628640"/>
            <a:ext cx="307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dfd293"/>
                </a:solidFill>
                <a:latin typeface="Garamond"/>
              </a:rPr>
              <a:t>Theme Three: Fat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58920" y="1557360"/>
            <a:ext cx="55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GB" sz="2000" spc="-1" strike="noStrike">
                <a:solidFill>
                  <a:srgbClr val="ffffff"/>
                </a:solidFill>
                <a:latin typeface="Garamond"/>
              </a:rPr>
              <a:t>Romeo and Juliet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, Shakespeare explores the theme of fate by allowing the audience to be party to his characters’ destiny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In the opening lines of the play the audience is told what is going to happen to the lovers: “a pair of star-cross'd lovers take their life.”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hroughout the story, the audience is put in an omnipotent, god-like position from the start encouraging them to think about fate and to what extent our actions are free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Because we know Romeo and Juliet’s fate from the outset we are constantly hoping that they will take a different course – perhaps that Romeo will arrive just after Juliet has woke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However, their fate is sealed and we are forced to question our own destiny and ability to make free choice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dfd293"/>
                </a:solidFill>
                <a:latin typeface="Garamond"/>
              </a:rPr>
              <a:t>Theme Three: Fat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When Mercutio shouts “a plague on both your houses” in Act 3, Scene 1, we are reminded of the protagonists’ fate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This bloody scene in which characters are killed gives us a glimpse of what fate has in store, marking the beginning of Romeo and Juliet’s tragic downfall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s it fate that Friar Lawrence’s plan to inform Romeo of Juliet’s faked death is not realized due to unforeseen circumstances?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s it fate that Romeo kills himself when he does?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Romeo and Juliet see omens throughout the play, continually reminding the audience of their fate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Their death is a catalyst for change in Verona: the dueling families are united in their grief creating a political shift in the city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Perhaps Romeo and Juliet were fated to love and die for the greater good of Verona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4816" t="11263" r="15896" b="8503"/>
          <a:stretch/>
        </p:blipFill>
        <p:spPr>
          <a:xfrm>
            <a:off x="5580000" y="1700280"/>
            <a:ext cx="223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293"/>
                </a:solidFill>
                <a:latin typeface="Garamond"/>
              </a:rPr>
              <a:t>Theme One: Lov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meo and Juliet has become forever associated with lov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lay has become an iconic story of love and passion, and the name “Romeo” is still used to describe young lover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kespeare’s treatment of love in the play is complex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 uses love in its many guises to thread together the key relationships in the pla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07188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Garamond"/>
              </a:rPr>
              <a:t>Fickle Love</a:t>
            </a:r>
            <a:br>
              <a:rPr sz="4000"/>
            </a:b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me characters fall in and out of love very quickly in </a:t>
            </a: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Romeo and Juliet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r example, Romeo is in love with Rosaline at the start of the play, which is presented as an immature infatuation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oday, we might use the term “puppy love” to describe this. Romeo’s love for Rosaline is shallow and nobody really believes that it will last, including Friar Laurence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56240" y="1600200"/>
            <a:ext cx="4030560" cy="4525920"/>
            <a:chOff x="4656240" y="1600200"/>
            <a:chExt cx="4030560" cy="452592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4656240" y="1600200"/>
              <a:ext cx="40305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4656240" y="1600200"/>
              <a:ext cx="40305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Garamond"/>
              </a:rPr>
              <a:t>Fickle Love</a:t>
            </a:r>
            <a:br>
              <a:rPr sz="4000"/>
            </a:b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2912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omeo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ou chid'st me oft for loving Rosaline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iar Laurence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doting, not for loving, pupil min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293"/>
                </a:solidFill>
                <a:latin typeface="Garamond"/>
              </a:rPr>
              <a:t>Paris and Julie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ilarly, Paris’ love for Juliet is borne out of tradition, not passion. He has identified her as a good candidate for a wife and approaches her father to arrange the marri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though this was the tradition at the time, it also says something about Paris’ staid attitude towards love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e even admits to Friar Laurence that in his haste to rush the wedding through he hasn’t discussed it with his bride-to-be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656240" y="1600200"/>
            <a:ext cx="4030560" cy="4525920"/>
            <a:chOff x="4656240" y="1600200"/>
            <a:chExt cx="4030560" cy="45259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656240" y="1600200"/>
              <a:ext cx="40305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4656240" y="1600200"/>
              <a:ext cx="40305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1600200"/>
            <a:ext cx="4029120" cy="4525920"/>
            <a:chOff x="457200" y="1600200"/>
            <a:chExt cx="4029120" cy="45259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291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457200" y="1600200"/>
              <a:ext cx="40291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riar Laurence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 Thursday, sir? the time is very short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ri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y father Capulet will have it so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I am nothing slow to slack his haste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riar Laurence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say you do not know the lady's mind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even is the course, I like it not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ri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moderately she weeps for Tybalt's death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therefore have I little talked of love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Garamond"/>
              </a:rPr>
              <a:t>Romantic Love</a:t>
            </a:r>
            <a:br>
              <a:rPr sz="4000"/>
            </a:b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r classic idea of romantic love is embodied 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omeo and Julie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Shakespeare presents this as a force of nature, so strong that it transcends societal convention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dea is established in the play’s prologue with the line “a pair of star-cross'd lovers take their life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43280" y="1628640"/>
            <a:ext cx="4030920" cy="4525920"/>
            <a:chOff x="4643280" y="1628640"/>
            <a:chExt cx="4030920" cy="45259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643280" y="1628640"/>
              <a:ext cx="40309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4643280" y="1628640"/>
              <a:ext cx="40309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Garamond"/>
              </a:rPr>
              <a:t>Romantic Lov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4029120" cy="4525920"/>
            <a:chOff x="457200" y="1600200"/>
            <a:chExt cx="4029120" cy="4525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291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 txBox="1"/>
            <p:nvPr/>
          </p:nvSpPr>
          <p:spPr>
            <a:xfrm>
              <a:off x="457200" y="1600200"/>
              <a:ext cx="40291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haps Romeo and Juliet's love is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  <a:hlinkClick r:id="rId2"/>
              </a:rPr>
              <a:t>fat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- there love is given cosmic significance which can therefore overturn the social boundaries of “fair Verona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ir love is disallowed by the Capulet and Montague households, and Juliet is to marry Paris – Yet, they inevitably find themselves drawn togethe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Garamond"/>
              </a:rPr>
              <a:t>Other Types of Love</a:t>
            </a:r>
            <a:br>
              <a:rPr sz="4000"/>
            </a:b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of the friendships in the play are as sincere as Romeo and Juliet’s love for one anothe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lose relationships between Juliet and her Nurse, and between Romeo, Mercutio and Benvolio are meaningful and heartfel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care deeply for another and protect each others honor – this ultimately costs Mercutio his lif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56240" y="1600200"/>
            <a:ext cx="4030560" cy="4525920"/>
            <a:chOff x="4656240" y="1600200"/>
            <a:chExt cx="4030560" cy="45259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656240" y="1600200"/>
              <a:ext cx="40305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4656240" y="1600200"/>
              <a:ext cx="40305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0:50:36Z</dcterms:created>
  <dc:creator>User</dc:creator>
  <dc:description/>
  <dc:language>en-US</dc:language>
  <cp:lastModifiedBy>Mc Walsh</cp:lastModifiedBy>
  <dcterms:modified xsi:type="dcterms:W3CDTF">2011-06-25T15:13:14Z</dcterms:modified>
  <cp:revision>4</cp:revision>
  <dc:subject/>
  <dc:title>Romeo and Juliet: Themes</dc:title>
</cp:coreProperties>
</file>